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026-EB03-405B-91CE-808B1B8E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40B-A607-4C10-8C40-13FD7B96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AA5-A169-40BC-B7F4-3C4168CE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DF6-3DD8-4231-A45E-FE956A4E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8D5-79D4-4B34-9253-10B27D3B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7C7-2EB9-4425-A230-706CC7AA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43C-64E6-4A2D-BD35-EE5B2A5A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4A5-2174-4159-8E6F-0CD7451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706-2043-4A62-B75F-B35220EC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49D-C39F-4855-BD30-9083DCA2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F05-F937-4246-86D3-B9076EA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46D-19B8-4FEF-A163-A6300BDA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C57-D084-4390-87C7-C71D4AE017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de Bono’s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 – Develop our understanding of six hats and our ability to us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771640" y="4797360"/>
            <a:ext cx="1738440" cy="1704960"/>
            <a:chOff x="2771640" y="4797360"/>
            <a:chExt cx="1738440" cy="1704960"/>
          </a:xfrm>
        </p:grpSpPr>
        <p:grpSp>
          <p:nvGrpSpPr>
            <p:cNvPr id="44" name=""/>
            <p:cNvGrpSpPr/>
            <p:nvPr/>
          </p:nvGrpSpPr>
          <p:grpSpPr>
            <a:xfrm>
              <a:off x="2771640" y="4797360"/>
              <a:ext cx="1738440" cy="1704960"/>
              <a:chOff x="2771640" y="4797360"/>
              <a:chExt cx="1738440" cy="1704960"/>
            </a:xfrm>
          </p:grpSpPr>
          <p:sp>
            <p:nvSpPr>
              <p:cNvPr id="45" name=""/>
              <p:cNvSpPr/>
              <p:nvPr/>
            </p:nvSpPr>
            <p:spPr>
              <a:xfrm>
                <a:off x="3007080" y="4797360"/>
                <a:ext cx="1144080" cy="13284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71640" y="5630040"/>
                <a:ext cx="1738440" cy="87228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42520" y="5947200"/>
                <a:ext cx="706680" cy="2376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040560" y="5034960"/>
              <a:ext cx="1076760" cy="442440"/>
            </a:xfrm>
            <a:custGeom>
              <a:avLst/>
              <a:gdLst/>
              <a:ahLst/>
              <a:rect l="l" t="t" r="r" b="b"/>
              <a:pathLst>
                <a:path w="1536" h="536">
                  <a:moveTo>
                    <a:pt x="0" y="432"/>
                  </a:moveTo>
                  <a:cubicBezTo>
                    <a:pt x="84" y="476"/>
                    <a:pt x="168" y="520"/>
                    <a:pt x="288" y="528"/>
                  </a:cubicBezTo>
                  <a:cubicBezTo>
                    <a:pt x="408" y="536"/>
                    <a:pt x="544" y="536"/>
                    <a:pt x="720" y="480"/>
                  </a:cubicBezTo>
                  <a:cubicBezTo>
                    <a:pt x="896" y="424"/>
                    <a:pt x="1208" y="272"/>
                    <a:pt x="1344" y="192"/>
                  </a:cubicBezTo>
                  <a:cubicBezTo>
                    <a:pt x="1480" y="112"/>
                    <a:pt x="1512" y="32"/>
                    <a:pt x="153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356000" y="4437000"/>
            <a:ext cx="1693800" cy="2209680"/>
            <a:chOff x="4356000" y="4437000"/>
            <a:chExt cx="1693800" cy="2209680"/>
          </a:xfrm>
        </p:grpSpPr>
        <p:grpSp>
          <p:nvGrpSpPr>
            <p:cNvPr id="50" name=""/>
            <p:cNvGrpSpPr/>
            <p:nvPr/>
          </p:nvGrpSpPr>
          <p:grpSpPr>
            <a:xfrm>
              <a:off x="4356000" y="4437000"/>
              <a:ext cx="1693800" cy="2209680"/>
              <a:chOff x="4356000" y="4437000"/>
              <a:chExt cx="1693800" cy="2209680"/>
            </a:xfrm>
          </p:grpSpPr>
          <p:sp>
            <p:nvSpPr>
              <p:cNvPr id="51" name=""/>
              <p:cNvSpPr/>
              <p:nvPr/>
            </p:nvSpPr>
            <p:spPr>
              <a:xfrm>
                <a:off x="4585320" y="4437000"/>
                <a:ext cx="1114560" cy="17218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56000" y="5516280"/>
                <a:ext cx="1693800" cy="113040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814640" y="5927400"/>
                <a:ext cx="688320" cy="30816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650840" y="4848120"/>
              <a:ext cx="1016280" cy="53964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336"/>
                  </a:moveTo>
                  <a:cubicBezTo>
                    <a:pt x="40" y="372"/>
                    <a:pt x="80" y="408"/>
                    <a:pt x="192" y="432"/>
                  </a:cubicBezTo>
                  <a:cubicBezTo>
                    <a:pt x="304" y="456"/>
                    <a:pt x="512" y="504"/>
                    <a:pt x="672" y="480"/>
                  </a:cubicBezTo>
                  <a:cubicBezTo>
                    <a:pt x="832" y="456"/>
                    <a:pt x="1016" y="368"/>
                    <a:pt x="1152" y="288"/>
                  </a:cubicBezTo>
                  <a:cubicBezTo>
                    <a:pt x="1288" y="208"/>
                    <a:pt x="1432" y="48"/>
                    <a:pt x="148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189000"/>
            <a:ext cx="1235160" cy="1841400"/>
            <a:chOff x="0" y="189000"/>
            <a:chExt cx="1235160" cy="1841400"/>
          </a:xfrm>
        </p:grpSpPr>
        <p:grpSp>
          <p:nvGrpSpPr>
            <p:cNvPr id="56" name=""/>
            <p:cNvGrpSpPr/>
            <p:nvPr/>
          </p:nvGrpSpPr>
          <p:grpSpPr>
            <a:xfrm>
              <a:off x="0" y="189000"/>
              <a:ext cx="1235160" cy="1841400"/>
              <a:chOff x="0" y="189000"/>
              <a:chExt cx="1235160" cy="1841400"/>
            </a:xfrm>
          </p:grpSpPr>
          <p:sp>
            <p:nvSpPr>
              <p:cNvPr id="57" name=""/>
              <p:cNvSpPr/>
              <p:nvPr/>
            </p:nvSpPr>
            <p:spPr>
              <a:xfrm>
                <a:off x="167040" y="189000"/>
                <a:ext cx="812880" cy="14346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088280"/>
                <a:ext cx="1235160" cy="94212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4440" y="1431000"/>
                <a:ext cx="501840" cy="2566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39040" y="617040"/>
              <a:ext cx="717120" cy="42804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32"/>
                  </a:moveTo>
                  <a:lnTo>
                    <a:pt x="96" y="480"/>
                  </a:lnTo>
                  <a:lnTo>
                    <a:pt x="288" y="240"/>
                  </a:lnTo>
                  <a:lnTo>
                    <a:pt x="384" y="288"/>
                  </a:lnTo>
                  <a:lnTo>
                    <a:pt x="576" y="96"/>
                  </a:lnTo>
                  <a:lnTo>
                    <a:pt x="816" y="240"/>
                  </a:lnTo>
                  <a:lnTo>
                    <a:pt x="912" y="0"/>
                  </a:lnTo>
                  <a:lnTo>
                    <a:pt x="1248" y="240"/>
                  </a:lnTo>
                  <a:lnTo>
                    <a:pt x="1344" y="0"/>
                  </a:lnTo>
                  <a:lnTo>
                    <a:pt x="1440" y="0"/>
                  </a:lnTo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68360" y="1268280"/>
            <a:ext cx="1262160" cy="2354040"/>
            <a:chOff x="468360" y="1268280"/>
            <a:chExt cx="1262160" cy="2354040"/>
          </a:xfrm>
        </p:grpSpPr>
        <p:grpSp>
          <p:nvGrpSpPr>
            <p:cNvPr id="62" name=""/>
            <p:cNvGrpSpPr/>
            <p:nvPr/>
          </p:nvGrpSpPr>
          <p:grpSpPr>
            <a:xfrm>
              <a:off x="468360" y="1268280"/>
              <a:ext cx="1262160" cy="2354040"/>
              <a:chOff x="468360" y="1268280"/>
              <a:chExt cx="1262160" cy="2354040"/>
            </a:xfrm>
          </p:grpSpPr>
          <p:sp>
            <p:nvSpPr>
              <p:cNvPr id="63" name=""/>
              <p:cNvSpPr/>
              <p:nvPr/>
            </p:nvSpPr>
            <p:spPr>
              <a:xfrm>
                <a:off x="639000" y="1268280"/>
                <a:ext cx="830520" cy="18342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8360" y="2418120"/>
                <a:ext cx="1262160" cy="120420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0360" y="2855880"/>
                <a:ext cx="513000" cy="3283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687960" y="1596600"/>
              <a:ext cx="757440" cy="70236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516720" y="189000"/>
            <a:ext cx="1871640" cy="1628280"/>
            <a:chOff x="6516720" y="189000"/>
            <a:chExt cx="1871640" cy="1628280"/>
          </a:xfrm>
        </p:grpSpPr>
        <p:grpSp>
          <p:nvGrpSpPr>
            <p:cNvPr id="68" name=""/>
            <p:cNvGrpSpPr/>
            <p:nvPr/>
          </p:nvGrpSpPr>
          <p:grpSpPr>
            <a:xfrm>
              <a:off x="6516720" y="284760"/>
              <a:ext cx="1871640" cy="1532520"/>
              <a:chOff x="6516720" y="284760"/>
              <a:chExt cx="1871640" cy="15325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6516720" y="284760"/>
                <a:ext cx="1871640" cy="1532520"/>
                <a:chOff x="6516720" y="284760"/>
                <a:chExt cx="1871640" cy="1532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770160" y="284760"/>
                  <a:ext cx="1231560" cy="11944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516720" y="1033200"/>
                  <a:ext cx="1871640" cy="78408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023600" y="1318680"/>
                  <a:ext cx="760680" cy="21384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6830280" y="498600"/>
                <a:ext cx="1146960" cy="4989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078680" y="189000"/>
              <a:ext cx="133560" cy="534600"/>
            </a:xfrm>
            <a:custGeom>
              <a:avLst/>
              <a:gdLst/>
              <a:ahLst/>
              <a:rect l="l" t="t" r="r" b="b"/>
              <a:pathLst>
                <a:path w="177" h="720">
                  <a:moveTo>
                    <a:pt x="101" y="720"/>
                  </a:moveTo>
                  <a:cubicBezTo>
                    <a:pt x="95" y="581"/>
                    <a:pt x="130" y="495"/>
                    <a:pt x="0" y="452"/>
                  </a:cubicBezTo>
                  <a:cubicBezTo>
                    <a:pt x="3" y="344"/>
                    <a:pt x="1" y="236"/>
                    <a:pt x="9" y="129"/>
                  </a:cubicBezTo>
                  <a:cubicBezTo>
                    <a:pt x="11" y="103"/>
                    <a:pt x="40" y="95"/>
                    <a:pt x="55" y="83"/>
                  </a:cubicBezTo>
                  <a:cubicBezTo>
                    <a:pt x="92" y="53"/>
                    <a:pt x="110" y="15"/>
                    <a:pt x="157" y="0"/>
                  </a:cubicBezTo>
                  <a:cubicBezTo>
                    <a:pt x="177" y="61"/>
                    <a:pt x="177" y="50"/>
                    <a:pt x="157" y="157"/>
                  </a:cubicBezTo>
                  <a:cubicBezTo>
                    <a:pt x="154" y="174"/>
                    <a:pt x="130" y="179"/>
                    <a:pt x="120" y="194"/>
                  </a:cubicBezTo>
                  <a:cubicBezTo>
                    <a:pt x="103" y="219"/>
                    <a:pt x="101" y="232"/>
                    <a:pt x="92" y="258"/>
                  </a:cubicBezTo>
                  <a:cubicBezTo>
                    <a:pt x="104" y="458"/>
                    <a:pt x="101" y="357"/>
                    <a:pt x="101" y="563"/>
                  </a:cubicBezTo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659640" y="1773360"/>
            <a:ext cx="2130480" cy="1693800"/>
            <a:chOff x="6659640" y="1773360"/>
            <a:chExt cx="2130480" cy="1693800"/>
          </a:xfrm>
        </p:grpSpPr>
        <p:grpSp>
          <p:nvGrpSpPr>
            <p:cNvPr id="76" name=""/>
            <p:cNvGrpSpPr/>
            <p:nvPr/>
          </p:nvGrpSpPr>
          <p:grpSpPr>
            <a:xfrm>
              <a:off x="6659640" y="1773360"/>
              <a:ext cx="2130480" cy="1693800"/>
              <a:chOff x="6659640" y="1773360"/>
              <a:chExt cx="2130480" cy="1693800"/>
            </a:xfrm>
          </p:grpSpPr>
          <p:sp>
            <p:nvSpPr>
              <p:cNvPr id="77" name=""/>
              <p:cNvSpPr/>
              <p:nvPr/>
            </p:nvSpPr>
            <p:spPr>
              <a:xfrm>
                <a:off x="6948000" y="1773360"/>
                <a:ext cx="1401840" cy="1319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59640" y="2600640"/>
                <a:ext cx="2130480" cy="86652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6720" y="2915640"/>
                <a:ext cx="865800" cy="23616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016760" y="2009520"/>
              <a:ext cx="1305720" cy="5511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192" name="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62520" y="1905120"/>
                <a:ext cx="95292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66680" y="253764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58720" y="277884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309320" y="208584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198" name="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199" name=""/>
              <p:cNvSpPr/>
              <p:nvPr/>
            </p:nvSpPr>
            <p:spPr>
              <a:xfrm>
                <a:off x="4158360" y="1523880"/>
                <a:ext cx="95256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62520" y="215676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54560" y="239760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205160" y="170460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205" name=""/>
              <p:cNvSpPr/>
              <p:nvPr/>
            </p:nvSpPr>
            <p:spPr>
              <a:xfrm>
                <a:off x="957960" y="4572000"/>
                <a:ext cx="95256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2120" y="520452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54160" y="544572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004760" y="475272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210" name="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211" name=""/>
              <p:cNvSpPr/>
              <p:nvPr/>
            </p:nvSpPr>
            <p:spPr>
              <a:xfrm>
                <a:off x="6825240" y="4267080"/>
                <a:ext cx="95292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9400" y="489996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21440" y="514080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872040" y="444780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066680" y="3276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h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222" name="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4281120" y="520992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0" y="5079960"/>
              <a:ext cx="244440" cy="357120"/>
            </a:xfrm>
            <a:custGeom>
              <a:avLst/>
              <a:gdLst/>
              <a:ahLst/>
              <a:rect l="l" t="t" r="r" b="b"/>
              <a:pathLst>
                <a:path w="154" h="225">
                  <a:moveTo>
                    <a:pt x="142" y="225"/>
                  </a:moveTo>
                  <a:cubicBezTo>
                    <a:pt x="121" y="75"/>
                    <a:pt x="154" y="219"/>
                    <a:pt x="105" y="132"/>
                  </a:cubicBezTo>
                  <a:cubicBezTo>
                    <a:pt x="99" y="121"/>
                    <a:pt x="104" y="105"/>
                    <a:pt x="96" y="95"/>
                  </a:cubicBezTo>
                  <a:cubicBezTo>
                    <a:pt x="84" y="80"/>
                    <a:pt x="39" y="72"/>
                    <a:pt x="22" y="68"/>
                  </a:cubicBezTo>
                  <a:cubicBezTo>
                    <a:pt x="0" y="0"/>
                    <a:pt x="14" y="11"/>
                    <a:pt x="78" y="22"/>
                  </a:cubicBezTo>
                  <a:cubicBezTo>
                    <a:pt x="81" y="46"/>
                    <a:pt x="87" y="95"/>
                    <a:pt x="87" y="95"/>
                  </a:cubicBezTo>
                  <a:lnTo>
                    <a:pt x="142" y="2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62640" y="4946760"/>
              <a:ext cx="125280" cy="328680"/>
            </a:xfrm>
            <a:custGeom>
              <a:avLst/>
              <a:gdLst/>
              <a:ahLst/>
              <a:rect l="l" t="t" r="r" b="b"/>
              <a:pathLst>
                <a:path w="79" h="207">
                  <a:moveTo>
                    <a:pt x="43" y="207"/>
                  </a:moveTo>
                  <a:cubicBezTo>
                    <a:pt x="40" y="189"/>
                    <a:pt x="43" y="168"/>
                    <a:pt x="34" y="152"/>
                  </a:cubicBezTo>
                  <a:cubicBezTo>
                    <a:pt x="29" y="143"/>
                    <a:pt x="7" y="152"/>
                    <a:pt x="6" y="142"/>
                  </a:cubicBezTo>
                  <a:cubicBezTo>
                    <a:pt x="0" y="96"/>
                    <a:pt x="12" y="50"/>
                    <a:pt x="15" y="4"/>
                  </a:cubicBezTo>
                  <a:cubicBezTo>
                    <a:pt x="34" y="7"/>
                    <a:pt x="58" y="0"/>
                    <a:pt x="71" y="13"/>
                  </a:cubicBezTo>
                  <a:cubicBezTo>
                    <a:pt x="79" y="21"/>
                    <a:pt x="57" y="31"/>
                    <a:pt x="52" y="41"/>
                  </a:cubicBezTo>
                  <a:cubicBezTo>
                    <a:pt x="45" y="56"/>
                    <a:pt x="40" y="72"/>
                    <a:pt x="34" y="87"/>
                  </a:cubicBezTo>
                  <a:cubicBezTo>
                    <a:pt x="46" y="124"/>
                    <a:pt x="47" y="110"/>
                    <a:pt x="34" y="152"/>
                  </a:cubicBezTo>
                  <a:cubicBezTo>
                    <a:pt x="31" y="161"/>
                    <a:pt x="22" y="170"/>
                    <a:pt x="24" y="179"/>
                  </a:cubicBezTo>
                  <a:cubicBezTo>
                    <a:pt x="26" y="190"/>
                    <a:pt x="37" y="198"/>
                    <a:pt x="43" y="207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4724280"/>
              <a:ext cx="152280" cy="454320"/>
            </a:xfrm>
            <a:custGeom>
              <a:avLst/>
              <a:gdLst/>
              <a:ahLst/>
              <a:rect l="l" t="t" r="r" b="b"/>
              <a:pathLst>
                <a:path w="96" h="286">
                  <a:moveTo>
                    <a:pt x="71" y="286"/>
                  </a:moveTo>
                  <a:cubicBezTo>
                    <a:pt x="87" y="242"/>
                    <a:pt x="96" y="211"/>
                    <a:pt x="44" y="194"/>
                  </a:cubicBezTo>
                  <a:cubicBezTo>
                    <a:pt x="1" y="151"/>
                    <a:pt x="0" y="42"/>
                    <a:pt x="44" y="0"/>
                  </a:cubicBezTo>
                  <a:cubicBezTo>
                    <a:pt x="57" y="55"/>
                    <a:pt x="63" y="114"/>
                    <a:pt x="34" y="16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233" name="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24320" y="216180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Would the six hats theory be good in a busines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WHY?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 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83" name="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1262520" y="1905120"/>
                <a:ext cx="95292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66680" y="253764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58720" y="277884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309320" y="208584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89" name="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90" name=""/>
              <p:cNvSpPr/>
              <p:nvPr/>
            </p:nvSpPr>
            <p:spPr>
              <a:xfrm>
                <a:off x="4158360" y="1523880"/>
                <a:ext cx="95256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62520" y="215676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54560" y="239760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205160" y="170460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95" name="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96" name=""/>
              <p:cNvSpPr/>
              <p:nvPr/>
            </p:nvSpPr>
            <p:spPr>
              <a:xfrm>
                <a:off x="957960" y="4572000"/>
                <a:ext cx="95256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2120" y="520452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54160" y="544572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04760" y="475272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101" name="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6825240" y="4267080"/>
                <a:ext cx="95292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29400" y="489996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21440" y="514080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040" y="444780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66680" y="3276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h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113" name="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4281120" y="520992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02000" y="5079960"/>
              <a:ext cx="244440" cy="357120"/>
            </a:xfrm>
            <a:custGeom>
              <a:avLst/>
              <a:gdLst/>
              <a:ahLst/>
              <a:rect l="l" t="t" r="r" b="b"/>
              <a:pathLst>
                <a:path w="154" h="225">
                  <a:moveTo>
                    <a:pt x="142" y="225"/>
                  </a:moveTo>
                  <a:cubicBezTo>
                    <a:pt x="121" y="75"/>
                    <a:pt x="154" y="219"/>
                    <a:pt x="105" y="132"/>
                  </a:cubicBezTo>
                  <a:cubicBezTo>
                    <a:pt x="99" y="121"/>
                    <a:pt x="104" y="105"/>
                    <a:pt x="96" y="95"/>
                  </a:cubicBezTo>
                  <a:cubicBezTo>
                    <a:pt x="84" y="80"/>
                    <a:pt x="39" y="72"/>
                    <a:pt x="22" y="68"/>
                  </a:cubicBezTo>
                  <a:cubicBezTo>
                    <a:pt x="0" y="0"/>
                    <a:pt x="14" y="11"/>
                    <a:pt x="78" y="22"/>
                  </a:cubicBezTo>
                  <a:cubicBezTo>
                    <a:pt x="81" y="46"/>
                    <a:pt x="87" y="95"/>
                    <a:pt x="87" y="95"/>
                  </a:cubicBezTo>
                  <a:lnTo>
                    <a:pt x="142" y="2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2640" y="4946760"/>
              <a:ext cx="125280" cy="328680"/>
            </a:xfrm>
            <a:custGeom>
              <a:avLst/>
              <a:gdLst/>
              <a:ahLst/>
              <a:rect l="l" t="t" r="r" b="b"/>
              <a:pathLst>
                <a:path w="79" h="207">
                  <a:moveTo>
                    <a:pt x="43" y="207"/>
                  </a:moveTo>
                  <a:cubicBezTo>
                    <a:pt x="40" y="189"/>
                    <a:pt x="43" y="168"/>
                    <a:pt x="34" y="152"/>
                  </a:cubicBezTo>
                  <a:cubicBezTo>
                    <a:pt x="29" y="143"/>
                    <a:pt x="7" y="152"/>
                    <a:pt x="6" y="142"/>
                  </a:cubicBezTo>
                  <a:cubicBezTo>
                    <a:pt x="0" y="96"/>
                    <a:pt x="12" y="50"/>
                    <a:pt x="15" y="4"/>
                  </a:cubicBezTo>
                  <a:cubicBezTo>
                    <a:pt x="34" y="7"/>
                    <a:pt x="58" y="0"/>
                    <a:pt x="71" y="13"/>
                  </a:cubicBezTo>
                  <a:cubicBezTo>
                    <a:pt x="79" y="21"/>
                    <a:pt x="57" y="31"/>
                    <a:pt x="52" y="41"/>
                  </a:cubicBezTo>
                  <a:cubicBezTo>
                    <a:pt x="45" y="56"/>
                    <a:pt x="40" y="72"/>
                    <a:pt x="34" y="87"/>
                  </a:cubicBezTo>
                  <a:cubicBezTo>
                    <a:pt x="46" y="124"/>
                    <a:pt x="47" y="110"/>
                    <a:pt x="34" y="152"/>
                  </a:cubicBezTo>
                  <a:cubicBezTo>
                    <a:pt x="31" y="161"/>
                    <a:pt x="22" y="170"/>
                    <a:pt x="24" y="179"/>
                  </a:cubicBezTo>
                  <a:cubicBezTo>
                    <a:pt x="26" y="190"/>
                    <a:pt x="37" y="198"/>
                    <a:pt x="43" y="207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4724280"/>
              <a:ext cx="152280" cy="454320"/>
            </a:xfrm>
            <a:custGeom>
              <a:avLst/>
              <a:gdLst/>
              <a:ahLst/>
              <a:rect l="l" t="t" r="r" b="b"/>
              <a:pathLst>
                <a:path w="96" h="286">
                  <a:moveTo>
                    <a:pt x="71" y="286"/>
                  </a:moveTo>
                  <a:cubicBezTo>
                    <a:pt x="87" y="242"/>
                    <a:pt x="96" y="211"/>
                    <a:pt x="44" y="194"/>
                  </a:cubicBezTo>
                  <a:cubicBezTo>
                    <a:pt x="1" y="151"/>
                    <a:pt x="0" y="42"/>
                    <a:pt x="44" y="0"/>
                  </a:cubicBezTo>
                  <a:cubicBezTo>
                    <a:pt x="57" y="55"/>
                    <a:pt x="63" y="114"/>
                    <a:pt x="34" y="16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124" name="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7024320" y="216180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 Extra Bold"/>
              </a:rPr>
              <a:t>Choose one of the eight proposals. Do a six hats fo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 Extra Bold"/>
              </a:rPr>
              <a:t>Once you have finished your 6 hats. Create a poster explaining the purpose of 6 hats and a guide to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feel about the sugges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r gut re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tuition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hink too long or too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37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066680" y="2819520"/>
              <a:ext cx="2438640" cy="850680"/>
            </a:xfrm>
            <a:custGeom>
              <a:avLst/>
              <a:gdLst/>
              <a:ahLst/>
              <a:rect l="l" t="t" r="r" b="b"/>
              <a:pathLst>
                <a:path w="1536" h="536">
                  <a:moveTo>
                    <a:pt x="0" y="432"/>
                  </a:moveTo>
                  <a:cubicBezTo>
                    <a:pt x="84" y="476"/>
                    <a:pt x="168" y="520"/>
                    <a:pt x="288" y="528"/>
                  </a:cubicBezTo>
                  <a:cubicBezTo>
                    <a:pt x="408" y="536"/>
                    <a:pt x="544" y="536"/>
                    <a:pt x="720" y="480"/>
                  </a:cubicBezTo>
                  <a:cubicBezTo>
                    <a:pt x="896" y="424"/>
                    <a:pt x="1208" y="272"/>
                    <a:pt x="1344" y="192"/>
                  </a:cubicBezTo>
                  <a:cubicBezTo>
                    <a:pt x="1480" y="112"/>
                    <a:pt x="1512" y="32"/>
                    <a:pt x="153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seeking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fa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formation is available? What  is rele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aring the white hat we are neutral in our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45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46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43000" y="2971800"/>
              <a:ext cx="2362320" cy="80028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336"/>
                  </a:moveTo>
                  <a:cubicBezTo>
                    <a:pt x="40" y="372"/>
                    <a:pt x="80" y="408"/>
                    <a:pt x="192" y="432"/>
                  </a:cubicBezTo>
                  <a:cubicBezTo>
                    <a:pt x="304" y="456"/>
                    <a:pt x="512" y="504"/>
                    <a:pt x="672" y="480"/>
                  </a:cubicBezTo>
                  <a:cubicBezTo>
                    <a:pt x="832" y="456"/>
                    <a:pt x="1016" y="368"/>
                    <a:pt x="1152" y="288"/>
                  </a:cubicBezTo>
                  <a:cubicBezTo>
                    <a:pt x="1288" y="208"/>
                    <a:pt x="1432" y="48"/>
                    <a:pt x="148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457200" y="2209680"/>
            <a:ext cx="3961800" cy="3276360"/>
            <a:chOff x="457200" y="2209680"/>
            <a:chExt cx="3961800" cy="3276360"/>
          </a:xfrm>
        </p:grpSpPr>
        <p:grpSp>
          <p:nvGrpSpPr>
            <p:cNvPr id="151" name=""/>
            <p:cNvGrpSpPr/>
            <p:nvPr/>
          </p:nvGrpSpPr>
          <p:grpSpPr>
            <a:xfrm>
              <a:off x="457200" y="2209680"/>
              <a:ext cx="3961800" cy="3276360"/>
              <a:chOff x="457200" y="2209680"/>
              <a:chExt cx="3961800" cy="3276360"/>
            </a:xfrm>
          </p:grpSpPr>
          <p:sp>
            <p:nvSpPr>
              <p:cNvPr id="152" name=""/>
              <p:cNvSpPr/>
              <p:nvPr/>
            </p:nvSpPr>
            <p:spPr>
              <a:xfrm>
                <a:off x="993600" y="2209680"/>
                <a:ext cx="260748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" y="3809880"/>
                <a:ext cx="396180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30360" y="4419360"/>
                <a:ext cx="161028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224000" y="2971440"/>
              <a:ext cx="2300760" cy="76212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32"/>
                  </a:moveTo>
                  <a:lnTo>
                    <a:pt x="96" y="480"/>
                  </a:lnTo>
                  <a:lnTo>
                    <a:pt x="288" y="240"/>
                  </a:lnTo>
                  <a:lnTo>
                    <a:pt x="384" y="288"/>
                  </a:lnTo>
                  <a:lnTo>
                    <a:pt x="576" y="96"/>
                  </a:lnTo>
                  <a:lnTo>
                    <a:pt x="816" y="240"/>
                  </a:lnTo>
                  <a:lnTo>
                    <a:pt x="912" y="0"/>
                  </a:lnTo>
                  <a:lnTo>
                    <a:pt x="1248" y="240"/>
                  </a:lnTo>
                  <a:lnTo>
                    <a:pt x="1344" y="0"/>
                  </a:lnTo>
                  <a:lnTo>
                    <a:pt x="1440" y="0"/>
                  </a:lnTo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nshine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itive and constru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bout effectiveness and getting a job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benefits, the advan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905120" y="3657600"/>
            <a:ext cx="990000" cy="228600"/>
            <a:chOff x="1905120" y="3657600"/>
            <a:chExt cx="990000" cy="228600"/>
          </a:xfrm>
        </p:grpSpPr>
        <p:grpSp>
          <p:nvGrpSpPr>
            <p:cNvPr id="159" name=""/>
            <p:cNvGrpSpPr/>
            <p:nvPr/>
          </p:nvGrpSpPr>
          <p:grpSpPr>
            <a:xfrm>
              <a:off x="1905120" y="3657600"/>
              <a:ext cx="990000" cy="228600"/>
              <a:chOff x="1905120" y="3657600"/>
              <a:chExt cx="990000" cy="2286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0512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056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0570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8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utio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lack hat the thinker points out errors or pit-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risks or dangers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difficultie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67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143000" y="2819520"/>
              <a:ext cx="2362320" cy="97776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creative mode of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 represents growth and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reen hat we look to new ideas and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hinking wears a gree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040" y="2081160"/>
            <a:ext cx="3936960" cy="3481200"/>
            <a:chOff x="635040" y="2081160"/>
            <a:chExt cx="3936960" cy="3481200"/>
          </a:xfrm>
        </p:grpSpPr>
        <p:grpSp>
          <p:nvGrpSpPr>
            <p:cNvPr id="175" name=""/>
            <p:cNvGrpSpPr/>
            <p:nvPr/>
          </p:nvGrpSpPr>
          <p:grpSpPr>
            <a:xfrm>
              <a:off x="635040" y="2286000"/>
              <a:ext cx="3936960" cy="3276360"/>
              <a:chOff x="635040" y="2286000"/>
              <a:chExt cx="3936960" cy="32763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35040" y="2286000"/>
                <a:ext cx="3936960" cy="3276360"/>
                <a:chOff x="635040" y="2286000"/>
                <a:chExt cx="3936960" cy="3276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168200" y="2286000"/>
                  <a:ext cx="2590920" cy="255276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5040" y="3886200"/>
                  <a:ext cx="3936960" cy="16761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01720" y="4495680"/>
                  <a:ext cx="1600200" cy="45720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295280" y="2743200"/>
                <a:ext cx="2413080" cy="106668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817640" y="2081160"/>
              <a:ext cx="281160" cy="1143000"/>
            </a:xfrm>
            <a:custGeom>
              <a:avLst/>
              <a:gdLst/>
              <a:ahLst/>
              <a:rect l="l" t="t" r="r" b="b"/>
              <a:pathLst>
                <a:path w="177" h="720">
                  <a:moveTo>
                    <a:pt x="101" y="720"/>
                  </a:moveTo>
                  <a:cubicBezTo>
                    <a:pt x="95" y="581"/>
                    <a:pt x="130" y="495"/>
                    <a:pt x="0" y="452"/>
                  </a:cubicBezTo>
                  <a:cubicBezTo>
                    <a:pt x="3" y="344"/>
                    <a:pt x="1" y="236"/>
                    <a:pt x="9" y="129"/>
                  </a:cubicBezTo>
                  <a:cubicBezTo>
                    <a:pt x="11" y="103"/>
                    <a:pt x="40" y="95"/>
                    <a:pt x="55" y="83"/>
                  </a:cubicBezTo>
                  <a:cubicBezTo>
                    <a:pt x="92" y="53"/>
                    <a:pt x="110" y="15"/>
                    <a:pt x="157" y="0"/>
                  </a:cubicBezTo>
                  <a:cubicBezTo>
                    <a:pt x="177" y="61"/>
                    <a:pt x="177" y="50"/>
                    <a:pt x="157" y="157"/>
                  </a:cubicBezTo>
                  <a:cubicBezTo>
                    <a:pt x="154" y="174"/>
                    <a:pt x="130" y="179"/>
                    <a:pt x="120" y="194"/>
                  </a:cubicBezTo>
                  <a:cubicBezTo>
                    <a:pt x="103" y="219"/>
                    <a:pt x="101" y="232"/>
                    <a:pt x="92" y="258"/>
                  </a:cubicBezTo>
                  <a:cubicBezTo>
                    <a:pt x="104" y="458"/>
                    <a:pt x="101" y="357"/>
                    <a:pt x="101" y="563"/>
                  </a:cubicBezTo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rol hat, organising thinking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the focus, calls for the use of other h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s and reflects on the thinking process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s for plan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2133720"/>
            <a:ext cx="3936960" cy="3276360"/>
            <a:chOff x="533520" y="2133720"/>
            <a:chExt cx="3936960" cy="3276360"/>
          </a:xfrm>
        </p:grpSpPr>
        <p:grpSp>
          <p:nvGrpSpPr>
            <p:cNvPr id="185" name=""/>
            <p:cNvGrpSpPr/>
            <p:nvPr/>
          </p:nvGrpSpPr>
          <p:grpSpPr>
            <a:xfrm>
              <a:off x="533520" y="2133720"/>
              <a:ext cx="3936960" cy="3276360"/>
              <a:chOff x="533520" y="2133720"/>
              <a:chExt cx="3936960" cy="3276360"/>
            </a:xfrm>
          </p:grpSpPr>
          <p:sp>
            <p:nvSpPr>
              <p:cNvPr id="186" name=""/>
              <p:cNvSpPr/>
              <p:nvPr/>
            </p:nvSpPr>
            <p:spPr>
              <a:xfrm>
                <a:off x="1066680" y="21337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520" y="37339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00200" y="43434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93760" y="2590560"/>
              <a:ext cx="2413080" cy="106632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1:39:02Z</dcterms:created>
  <dc:creator>LEEDS CITY COUNCIL LEEDS CITY</dc:creator>
  <dc:description/>
  <dc:language>en-US</dc:language>
  <cp:lastModifiedBy>Robert</cp:lastModifiedBy>
  <dcterms:modified xsi:type="dcterms:W3CDTF">2009-01-03T05:08:57Z</dcterms:modified>
  <cp:revision>8</cp:revision>
  <dc:subject/>
  <dc:title>Six Thinking Hats</dc:title>
</cp:coreProperties>
</file>